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media/image11.wmf" ContentType="image/x-wmf"/>
  <Override PartName="/ppt/media/image8.wmf" ContentType="image/x-wmf"/>
  <Override PartName="/ppt/media/image9.png" ContentType="image/png"/>
  <Override PartName="/ppt/media/image10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27F5-AD91-4DCD-9DF4-31CDA3DF9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2584-B17F-4415-B080-1F817A11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5B47-2469-4977-A4CA-F91B6D8F8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68D6-432C-4B7E-86FF-944B6756F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4931C-CFFC-471E-9DF8-0913B7949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7536-88BA-4D0E-9996-5AC20CC0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0639-767D-46FA-A7EC-E18F12B4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687C-18ED-4532-87A4-AA3D6A7D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6CB1-FFBC-4909-992C-15C8DE5F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7B19-456D-4AEE-9274-6CF523B8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BB46-9AB3-44B9-B17F-CA97A85A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711A-13FE-4272-BFE0-3E6DD339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90D65-3996-4AD0-B14E-13859062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2E59-A68A-466F-9E47-2A72A02A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BAD6-9E86-48A2-8E5D-FEE18827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91E4-D11A-4C99-A276-F73FC3D7A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4642-F288-4DDB-9623-731067DB3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7989A9-A469-41E8-94A7-892D9E2C7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6E1B06-04AD-457C-B1E7-DA3B805D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158D15-DF39-4276-960B-52B43325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0EB81C-AB04-408B-9E36-F1BEE23B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2F16AE-76F7-47F7-9027-650E6058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4531-9FEA-4A41-9777-90FB82CC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84E202-364E-4C17-96FD-15FC3BB2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25ED63-1E23-4672-A0A5-0FB544D6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FB4297-D630-443A-9A5F-A1C3F39A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0180CF-BED7-4A95-B643-CE315285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B09D00-A1FE-44BE-B9F4-40EB692F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24F90E-D587-400F-90DF-9A2D469E8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8070AC-31D2-43F2-A440-0A02D1E04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72C01-93ED-40DE-BCF9-D9066BD61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28EF2-8842-41A1-99D0-944EEEF5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511EE-1592-4FBC-99A6-D338D6FD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FDCF-E5A0-4D54-A4CC-AA12C83B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527AF-0021-445F-8192-AD166C2B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ADFE9-2D0B-4A9C-9D43-C1AF3F22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8341C-498A-46DC-BF61-A4CE0368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37A03-B8CD-44C9-9BEE-F2349470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CD6D6-2D1B-4A13-B67E-74EF34CA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9565A-36A8-40C2-AD61-9045CC05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4E4B4-6E70-4778-99D2-DB1EDB02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ECE26-534C-4C20-93BB-6B23398D3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C7D38-A9C7-4D4D-B25A-0A13AE915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11B5-0FD9-44A3-B3A6-01733B31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8B65-7271-4D64-BBFC-F414E566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9992-0403-4090-96E3-60BE1844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FA9E-B52F-4E58-8EBC-5D8D8612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1DD4-B0C0-4BF5-8296-63F6080A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c7e"/>
            </a:gs>
            <a:gs pos="100000">
              <a:srgbClr val="f5f7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0ccb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F78C-77B2-4C08-8B03-3A7B97FDEAA9}" type="datetime">
              <a:rPr b="0" lang="en-US" sz="800" spc="-1" strike="noStrike">
                <a:solidFill>
                  <a:srgbClr val="b0ccb0"/>
                </a:solidFill>
                <a:latin typeface="Georgia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2320-866B-4012-9815-354B3B2B56D2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c7e"/>
            </a:gs>
            <a:gs pos="100000">
              <a:srgbClr val="f5f7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b0ccb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b0ccb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b0ccb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0ccb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C60A-0239-4AD5-A458-5FC45F41330C}" type="datetime">
              <a:rPr b="0" lang="en-US" sz="800" spc="-1" strike="noStrike">
                <a:solidFill>
                  <a:srgbClr val="b0ccb0"/>
                </a:solidFill>
                <a:latin typeface="Georgia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1AF9-7AA9-41F3-8E7A-CB48421C986D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c7e"/>
            </a:gs>
            <a:gs pos="100000">
              <a:srgbClr val="f5f7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0ccb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DE2F-6779-4E4E-9DC9-36CD2F226FAD}" type="datetime">
              <a:rPr b="0" lang="en-US" sz="800" spc="-1" strike="noStrike">
                <a:solidFill>
                  <a:srgbClr val="b0ccb0"/>
                </a:solidFill>
                <a:latin typeface="Georgia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75F5-979D-41A4-B77A-DC0C9482543A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c7e"/>
            </a:gs>
            <a:gs pos="100000">
              <a:srgbClr val="f5f7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0ccb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63CC-2E96-4D3B-8925-328BF3F5B740}" type="datetime">
              <a:rPr b="0" lang="en-US" sz="800" spc="-1" strike="noStrike">
                <a:solidFill>
                  <a:srgbClr val="b0ccb0"/>
                </a:solidFill>
                <a:latin typeface="Georgia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4CA0-0AEE-4501-B574-92A5BC8F6249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c7e"/>
            </a:gs>
            <a:gs pos="100000">
              <a:srgbClr val="f5f7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23619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The Makeup of Soil</a:t>
            </a:r>
            <a:br>
              <a:rPr sz="4000"/>
            </a:b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</p:spTree>
  </p:cSld>
  <p:transition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c7e"/>
            </a:gs>
            <a:gs pos="100000">
              <a:srgbClr val="8a8e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Trebuchet MS"/>
              </a:rPr>
              <a:t>Animals and Insects</a:t>
            </a:r>
            <a:br>
              <a:rPr sz="3600"/>
            </a:br>
            <a:endParaRPr b="0" lang="en-US" sz="36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0476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arthworms, ants, crawfish, moles, and other organisms improve the soil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tilth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(the ease with which soil can be worked)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reate openings in the soil as they tunnel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enhances drainage and improves air exchang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3" name="Picture 2" descr="C:\Documents and Settings\kmyers.HS-LAPTOP\Local Settings\Temporary Internet Files\Content.IE5\2F8WAHKY\MCBD07377_0000[1].wmf"/>
          <p:cNvPicPr/>
          <p:nvPr/>
        </p:nvPicPr>
        <p:blipFill>
          <a:blip r:embed="rId1"/>
          <a:stretch/>
        </p:blipFill>
        <p:spPr>
          <a:xfrm>
            <a:off x="3048120" y="4164120"/>
            <a:ext cx="2685960" cy="22176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9" dur="2000" fill="hold"/>
                                        <p:tgtEl>
                                          <p:spTgt spid="2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c7e"/>
            </a:gs>
            <a:gs pos="100000">
              <a:srgbClr val="bdc0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Trebuchet MS"/>
              </a:rPr>
              <a:t>What is soil?</a:t>
            </a:r>
            <a:br>
              <a:rPr sz="3600"/>
            </a:br>
            <a:endParaRPr b="0" lang="en-US" sz="36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808280"/>
            <a:ext cx="8229600" cy="48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ayer on the earth’s crust that provides a combination of resource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7" name="Picture 2" descr="C:\Documents and Settings\kmyers.HS-LAPTOP\Local Settings\Temporary Internet Files\Content.IE5\8XL8TNL2\MPj04331680000[1].jpg"/>
          <p:cNvPicPr/>
          <p:nvPr/>
        </p:nvPicPr>
        <p:blipFill>
          <a:blip r:embed="rId1"/>
          <a:stretch/>
        </p:blipFill>
        <p:spPr>
          <a:xfrm>
            <a:off x="2666880" y="2971800"/>
            <a:ext cx="4267440" cy="31939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c7e"/>
            </a:gs>
            <a:gs pos="100000">
              <a:srgbClr val="bdc0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Trebuchet MS"/>
              </a:rPr>
              <a:t>How does soil help support life?</a:t>
            </a:r>
            <a:br>
              <a:rPr sz="3600"/>
            </a:br>
            <a:endParaRPr b="0" lang="en-US" sz="36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752120"/>
            <a:ext cx="6400800" cy="48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xygen—needed for adequate root growth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emperature—determined by the amount of heat the soil absorbs from the sun and the amount it loses to the atmosphere. Temperatures within a particular range are needed for plant growth and seed germination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0" name="Picture 3" descr="C:\Documents and Settings\kmyers.HS-LAPTOP\Local Settings\Temporary Internet Files\Content.IE5\1360HSEE\MCj02265420000[1].wmf"/>
          <p:cNvPicPr/>
          <p:nvPr/>
        </p:nvPicPr>
        <p:blipFill>
          <a:blip r:embed="rId1"/>
          <a:stretch/>
        </p:blipFill>
        <p:spPr>
          <a:xfrm>
            <a:off x="6934320" y="2035080"/>
            <a:ext cx="1828800" cy="13129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C:\Documents and Settings\kmyers.HS-LAPTOP\Local Settings\Temporary Internet Files\Content.IE5\TLGKW6I8\MCj04136240000[1].wmf"/>
          <p:cNvPicPr/>
          <p:nvPr/>
        </p:nvPicPr>
        <p:blipFill>
          <a:blip r:embed="rId2"/>
          <a:stretch/>
        </p:blipFill>
        <p:spPr>
          <a:xfrm>
            <a:off x="6934320" y="3809880"/>
            <a:ext cx="1450800" cy="21812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c7e"/>
            </a:gs>
            <a:gs pos="100000">
              <a:srgbClr val="bdc0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Trebuchet MS"/>
              </a:rPr>
              <a:t>How does soil help support life?</a:t>
            </a:r>
            <a:br>
              <a:rPr sz="3600"/>
            </a:br>
            <a:endParaRPr b="0" lang="en-US" sz="36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752120"/>
            <a:ext cx="6781680" cy="48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ater—utilized for growth of plant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rbon—utilized in the form of organic matter in the soil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utrients—provided as minerals. Nitrogen is one mineral made available and recycled through decaying material in the soil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4" name="Picture 3" descr="C:\Documents and Settings\kmyers.HS-LAPTOP\Local Settings\Temporary Internet Files\Content.IE5\1GYL4YA0\MCj03405200000[1].wmf"/>
          <p:cNvPicPr/>
          <p:nvPr/>
        </p:nvPicPr>
        <p:blipFill>
          <a:blip r:embed="rId1"/>
          <a:stretch/>
        </p:blipFill>
        <p:spPr>
          <a:xfrm>
            <a:off x="7086600" y="1066680"/>
            <a:ext cx="1752480" cy="1420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C:\Documents and Settings\kmyers.HS-LAPTOP\Local Settings\Temporary Internet Files\Content.IE5\8XL8TNL2\MCj02265120000[1].wmf"/>
          <p:cNvPicPr/>
          <p:nvPr/>
        </p:nvPicPr>
        <p:blipFill>
          <a:blip r:embed="rId2"/>
          <a:stretch/>
        </p:blipFill>
        <p:spPr>
          <a:xfrm>
            <a:off x="7132680" y="2666880"/>
            <a:ext cx="1706400" cy="1219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C:\Documents and Settings\kmyers.HS-LAPTOP\Local Settings\Temporary Internet Files\Content.IE5\1GYL4YA0\MCj02265360000[1].wmf"/>
          <p:cNvPicPr/>
          <p:nvPr/>
        </p:nvPicPr>
        <p:blipFill>
          <a:blip r:embed="rId3"/>
          <a:stretch/>
        </p:blipFill>
        <p:spPr>
          <a:xfrm>
            <a:off x="7201080" y="4191120"/>
            <a:ext cx="1719000" cy="12189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Trebuchet MS"/>
              </a:rPr>
              <a:t>Soil Components </a:t>
            </a:r>
            <a:br>
              <a:rPr sz="3600"/>
            </a:br>
            <a:endParaRPr b="0" lang="en-US" sz="36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828440"/>
            <a:ext cx="8229600" cy="47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olid portions (50 percent of soil volume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37560" indent="-238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Georgia"/>
              </a:rPr>
              <a:t>Mineral matter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894600" indent="-2120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45 percent of the soi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94600" indent="-2120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organic material originating from rock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94600" indent="-2120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etermine the soil’s ability to hold water and provide nutrien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94600" indent="-2120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and, silt, and cla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37560" indent="-238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eorgia"/>
              </a:rPr>
              <a:t>Organic matter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894600" indent="-2120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5 percent of the soi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94600" indent="-2120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artially decomposed plant and animal matter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94600" indent="-2120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tributes to the soil’s fertility as well as improved aeration and water-holding capaci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94600" indent="-2120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ives soil its dark colo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9" name="Picture 4" descr="C:\Documents and Settings\kmyers.HS-LAPTOP\Local Settings\Temporary Internet Files\Content.IE5\1GYL4YA0\MCj03892860000[1].wmf"/>
          <p:cNvPicPr/>
          <p:nvPr/>
        </p:nvPicPr>
        <p:blipFill>
          <a:blip r:embed="rId2"/>
          <a:stretch/>
        </p:blipFill>
        <p:spPr>
          <a:xfrm>
            <a:off x="7620120" y="219240"/>
            <a:ext cx="1295280" cy="14778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Trebuchet MS"/>
              </a:rPr>
              <a:t>Soil Components</a:t>
            </a:r>
            <a:br>
              <a:rPr sz="3600"/>
            </a:br>
            <a:endParaRPr b="0" lang="en-US" sz="36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828440"/>
            <a:ext cx="8229600" cy="47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Pore space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50 percent of soil volume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ir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25 percent of the soi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Water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25 percent of the soil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hen it rains, water will enter the soil or flow off the soil’s surfac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re is a constant fluctuation in the amount of air and water found in the soil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2" name="Picture 4" descr="C:\Documents and Settings\kmyers.HS-LAPTOP\Local Settings\Temporary Internet Files\Content.IE5\1GYL4YA0\MCj03892860000[1].wmf"/>
          <p:cNvPicPr/>
          <p:nvPr/>
        </p:nvPicPr>
        <p:blipFill>
          <a:blip r:embed="rId2"/>
          <a:stretch/>
        </p:blipFill>
        <p:spPr>
          <a:xfrm>
            <a:off x="7620120" y="219240"/>
            <a:ext cx="1295280" cy="14778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676a55"/>
              </a:solidFill>
              <a:latin typeface="Trebuchet MS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2"/>
          <a:stretch/>
        </p:blipFill>
        <p:spPr>
          <a:xfrm>
            <a:off x="1295280" y="490680"/>
            <a:ext cx="6477120" cy="62290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c7e"/>
            </a:gs>
            <a:gs pos="100000">
              <a:srgbClr val="8a8e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Trebuchet MS"/>
              </a:rPr>
              <a:t>Living Organisms Found in Soil</a:t>
            </a:r>
            <a:br>
              <a:rPr sz="3600"/>
            </a:br>
            <a:endParaRPr b="0" lang="en-US" sz="36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0476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ms of life in soil includ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arthworm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sec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acteri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ung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ther organism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7" name="Picture 2" descr="C:\Documents and Settings\kmyers.HS-LAPTOP\Local Settings\Temporary Internet Files\Content.IE5\2F8WAHKY\MPj04385240000[1].jpg"/>
          <p:cNvPicPr/>
          <p:nvPr/>
        </p:nvPicPr>
        <p:blipFill>
          <a:blip r:embed="rId1"/>
          <a:stretch/>
        </p:blipFill>
        <p:spPr>
          <a:xfrm>
            <a:off x="4572000" y="3886200"/>
            <a:ext cx="3048120" cy="20145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8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c7e"/>
            </a:gs>
            <a:gs pos="100000">
              <a:srgbClr val="8a8e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Trebuchet MS"/>
              </a:rPr>
              <a:t>Bacteria and Fungi</a:t>
            </a:r>
            <a:br>
              <a:rPr sz="3600"/>
            </a:br>
            <a:endParaRPr b="0" lang="en-US" sz="36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218960" y="1904760"/>
            <a:ext cx="746748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Break down organic matter and release nutrient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Have symbiotic relationships with plants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Symbiosi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is the living together of unlike organisms where both organisms benefit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fungi get glucose and sucrose from plant root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plants are assisted in the absorption of water and mineral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0" name="Picture 2" descr="C:\Documents and Settings\kmyers.HS-LAPTOP\Local Settings\Temporary Internet Files\Content.IE5\1360HSEE\MCj04324230000[1].wmf"/>
          <p:cNvPicPr/>
          <p:nvPr/>
        </p:nvPicPr>
        <p:blipFill>
          <a:blip r:embed="rId1"/>
          <a:stretch/>
        </p:blipFill>
        <p:spPr>
          <a:xfrm>
            <a:off x="304920" y="2209680"/>
            <a:ext cx="1130040" cy="10414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01:23:41Z</dcterms:created>
  <dc:creator>kmyers</dc:creator>
  <dc:description/>
  <dc:language>en-US</dc:language>
  <cp:lastModifiedBy>Alicia Burge</cp:lastModifiedBy>
  <dcterms:modified xsi:type="dcterms:W3CDTF">2010-10-05T02:16:18Z</dcterms:modified>
  <cp:revision>19</cp:revision>
  <dc:subject/>
  <dc:title>Slide 1</dc:title>
</cp:coreProperties>
</file>